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49AA-2870-4AD7-B032-6901F6C3C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8168-446D-488A-9E3D-CD8B687204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F4E1-F6C2-43A2-8679-25071AFC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48E7-F962-4FD3-84AD-277D3BDE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4AEE-1DBC-4D13-AAFB-F819F6D5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09DC-BF6A-4330-ADE1-3207863B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A3AA-A776-43B9-B00E-553BDF95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DF53-5BB7-459D-A212-1A4F644E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369A-917B-4562-934B-B19109FC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1D69-1BCA-4968-A660-67C9F3CB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2C97-D898-457A-B74E-E8076B28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0F4E-5909-4258-940E-70D98807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3A3D-806B-4B1E-B4D7-7146286F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9E0D-FBFD-4811-BECE-2D70A7CA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69D0-9AE2-4B2C-85C3-6C659CA5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2D9D-B3AE-4B93-BBFC-58E6CD5E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B6F1-47A7-4C95-8107-5595AE3C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3710-B630-4E61-A48D-13EC21E75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9ECB-98CA-4A7E-8988-FC7BA958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54C02-3285-474C-9960-85297249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3F355-DED7-4286-9A33-DDC47CA4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F3236-94EB-4D70-AE4F-AA0F5DCA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F16B5-0FF6-4CEF-A4E6-9169B532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81AC9-63A2-4A74-963B-4D7024C8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91AD-AF71-4D55-90F5-BEBB10C4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035ED-C42B-4830-B8B5-BCCA0821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A3D5D-D03D-4988-98BD-31FD6B43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A9B23-DD21-48CA-8579-5683BD18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8017B-CDEE-4FE9-992B-4DF353A7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B9423-0BB9-487E-A1C4-EF010F74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F3DA7-850A-4BB9-BE18-AD620566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F8BE6-9718-458A-9389-FF1CF1A4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2B238-69B3-4C00-B7AE-E61DA2DC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9BBA0-7FCF-4D07-9F3D-DACE0254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1E299-169E-4145-AB77-81BF7305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77D8-4E4D-4CD8-A1BB-4931A2CF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DF5BE-0308-4F99-9C40-2A71F7AC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875A8-B1D4-498E-8D43-EC7EA3B2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377FC-304E-4E8F-81AF-4FF564A8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7A6FB-D05B-4839-AE07-197CC023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10CF7-85F2-4D1B-A1C9-D9B23401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90321-55B1-4F29-9B70-A92486AF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56A63-6D61-4587-A0E0-DA7CC407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50F21-0082-4623-BFB9-CCCB43A4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D2802-0F5C-44D6-ABFC-57775B2F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1B9D7-AC2C-433D-A12B-F2878709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C05-808A-4207-8A68-CB326A91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74875-0299-4D29-A214-584C6621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F62F2-7DEE-4B25-90CE-1B3B71E9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34016-FF80-4A6A-9644-14EDB125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7A7BB-3FF4-4043-903D-55989BB2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A0AA9-BBF7-42B6-B9FA-8DBDE205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03135-4C31-42D7-80C5-556DE569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CC1D3-BFDD-4820-8AB8-F8CE953D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AF9DD-6425-406C-A92D-D986792E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D3542-1356-48D9-A184-8F0BD51D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AD5F8-C743-4776-8C60-3389BFAA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B68A-BF67-4D11-A82F-87CE6FFC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F4F48-2A68-4A8F-8AE5-96A20E53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47138-C371-4BFD-BBB8-F9CB6E581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0B1E3-B8E5-4382-8F2B-785BA313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A5E24-D3DC-49FD-9BD3-72217D74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46DA4-B11E-403D-9BE8-AF62348F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3463C-E78B-4E55-BD84-A710A1D2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7F03D-B9A5-47E9-9194-52FBAE1D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40E34-2158-4DE1-8ED6-E6E5FCDC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23942-873A-44C8-BE4C-41E134E5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0FC8A-E0F9-4F55-B18B-07030903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296C-9698-46AD-8890-D317A421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8C365-DB9B-4A28-BDCA-A46613FA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7037D-2862-4D56-87D2-C29235EF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A5339-0EA1-4435-ABCD-600F754F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017-C568-408E-BDAA-C5DAFD6A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D6A7-8FAC-4B50-A06F-6705F136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C1A9-5FB1-4CCC-B696-13ED8034887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1127-A4F4-442C-B7D9-0B7412F669A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05A3-F631-417A-9EDD-8006ABD4F02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2B52-2476-4668-853E-22D0B410C15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BDB3-8041-4F7A-BF1E-9F0A428346B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03DC-3B37-470A-9F79-DF35AE33788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96096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6840" y="5331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heights and widths of major, immediate, and minor graduation marks should not be less than the values given in figure 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24816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6840" y="137160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 normal illumination, graduation marks may be spaced as close as 0.9 mm (0.035 in), but the space should never be less than twice the stroke-width for white marks on black dial fa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el displays clearly to prevent con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s and labels should contrast with their background and be of proper size and co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ons and symbolic signs are very quick in conveying information to the human opera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dequate illumination and prevent shadows on the display su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Guidelines for Designing Display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761760"/>
            <a:ext cx="83059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4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arning lights should subtend at least 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° of visual ang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  <a:ea typeface="Arial"/>
              </a:rPr>
              <a:t>Co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4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lors in the order of eliciting fast human responses are first, red; second, green; third, yellow; and fourth, whit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4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ince red normally indicates danger to most people, warning lights should generally be re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  <a:ea typeface="Arial"/>
              </a:rPr>
              <a:t>Flash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4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 flash light is more effective than a steady light in attracting someone’s atten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4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n optimum flash light is 4 times per second. It can be in the range of 3 – 10 times per seco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  <a:ea typeface="Arial"/>
              </a:rPr>
              <a:t>Contrast with backg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4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arning light should be bright enough to get atten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4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 light should be at least twice as bright as its immediate backgrou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4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arning light should also contrast with backgrou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  <a:ea typeface="Arial"/>
              </a:rPr>
              <a:t>Multimedia pres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4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n auditory signal can be used for getting extra attention or as a back up system for the visual warning sign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uditory signals are also effective for operators who move around the workplace and may be out of the visual field of a warning ligh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Guidelines for Designing Warning Light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ntro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s = activ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mit inputs to a piece of equip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f Control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ate or shutdown equi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e a discrete setting, such as making a separate or distinct adjustment like selecting a TV Chann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e a quantitative setting such as selecting a temperature on thermost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y continuous control, such as steering an automob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Controls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990360"/>
            <a:ext cx="7467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the basis of the action required, controls are of following two typ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Discrete-action contr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4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control can be set to any exact position from a limited number of pos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4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type of controls are suitable for turning equipment on or off, changing modes of operation, and selecting meter sc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4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controls includes toggle switches, push button, thumbwheels, legend switches, and rotary selector switch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Continuous-action contr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4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inuous-action control can be set at any position within the range of its mov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4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type of control is used for opening or closing valves, adjusting displays, and varying potentiomete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4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.: hand wheels, knob, hand cranks, levers, joystick, and ped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ed on the amount muscular effort required, manual controls are classified into the following two categor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Nimble (light) control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ich require little muscular eff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Heavy control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ich require muscular eff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s should be designed based on anatomy and functional characteristics of body lim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orce, speed, accuracy, or range of movement required by control should not exceed the capabilities of the least capable opera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 of control can be easily operated with fingers (use push buttons, tumbler switches, and rotating knobs for operation requiring little movement or muscular effor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 long-armed lavers, cranks, hand-wheels, and pedals for operation requiring muscular effort over a long distance, and requiring little prec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umber of controls should be minimized, and their movements should be simple, natural, and easy to perfo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Guidelines for Designing and Selecting Control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 movements should be as short as possible, consistent with the requirements of accuracy and fe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 should show a positive sign of activation so that malfunction can be immediately apparent to the ope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 action should result in a positive indication to the operator that there has been a system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 should be resistant to abuse and temp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 surfaces should be designed to prevent the accidental activation of the control by a slipping finger, hand, or fo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s should have sufficient resistance so that their inadvertent activation by the weight of a hand or foot is preve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Guidelines for Designing and Selecting Control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56840" y="137160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all controls near the ope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all hand operated controls so that they can easily be reached and grasp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all heavy levers, that requires the use of a large muscle group of the arm, at slightly below shoulder height for standing and at elbow for sit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all controls at either side of the center of the operator’s position rather than mounting them in the cen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all cranks that  require a high level of torque so that the turning handle is parallel to the frontal plane of the bod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all controls in full view of the us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distance between neighboring controls must be sufficient to avoid accidental activ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all foot controls in such a way that accidental activation, which may lead to potential hazards and undesirable consequences , can be avoi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sider the human anatomy in specifying distance between control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 a appropriate methods of control coding to enable the operator to identify each control correctly and quick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Guidelines for Installation and Layout of Controls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28600" y="1066680"/>
            <a:ext cx="5486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irection of movement of control should be compatible with the direction of movement of display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oving scale with a fixed indicator should move to the left (counterclockwise) when the control is moved to the right (clockwise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cale values should increase from left to right (clockwise), so that the rotation of the scale to the left shows increased read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a hand lever is moved upwards, forwards, or to the right, the display reading should increase or switch should move to the on po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s should be installed near to the displays which they aff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ntrol should be installed either below the 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Guidelines for Control-Display Compatibility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5715000" y="1676520"/>
            <a:ext cx="311796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Guidelines for Control-Display Compatibility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28600" y="1143000"/>
            <a:ext cx="5486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ype, location, and orientation of the control should be compatible with the system response through the 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ication labels should be placed above the controls and identical above the corresponding display instru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controls have to be in one panel and the displays in another, the two sets should be laid out in the same order  and arrange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a series of controls are normally operated in sequence, they and their corresponding display instruments should be arranged on the panel in the same order. From left to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arranging a group of controls and displays, the controls and displays that are used more often should be located directly in front of the operator, and others to the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5638680" y="1219320"/>
            <a:ext cx="35053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Human – Machine System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7800" indent="-36324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erceives the status of the machine through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Display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terprets and mentally process the perceived inform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kes a deci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8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veys the decision to the machine through manually operated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ntro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Poor ergonomics designs lead to waste of time and money, and often traged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4191120" y="1600200"/>
            <a:ext cx="45720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2286000" y="54000"/>
            <a:ext cx="521028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742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ntrol Desig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2554560" cy="3733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"/>
          <p:cNvPicPr/>
          <p:nvPr/>
        </p:nvPicPr>
        <p:blipFill>
          <a:blip r:embed="rId2"/>
          <a:stretch/>
        </p:blipFill>
        <p:spPr>
          <a:xfrm>
            <a:off x="152280" y="4038480"/>
            <a:ext cx="878076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3895560" cy="3100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1295280" y="3359160"/>
            <a:ext cx="6019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315200" cy="34513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"/>
          <p:cNvPicPr/>
          <p:nvPr/>
        </p:nvPicPr>
        <p:blipFill>
          <a:blip r:embed="rId2"/>
          <a:stretch/>
        </p:blipFill>
        <p:spPr>
          <a:xfrm>
            <a:off x="609480" y="3732120"/>
            <a:ext cx="807732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763120" cy="2087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"/>
          <p:cNvPicPr/>
          <p:nvPr/>
        </p:nvPicPr>
        <p:blipFill>
          <a:blip r:embed="rId2"/>
          <a:stretch/>
        </p:blipFill>
        <p:spPr>
          <a:xfrm>
            <a:off x="228600" y="2895480"/>
            <a:ext cx="868680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819520" y="0"/>
            <a:ext cx="3524040" cy="3789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"/>
          <p:cNvPicPr/>
          <p:nvPr/>
        </p:nvPicPr>
        <p:blipFill>
          <a:blip r:embed="rId2"/>
          <a:stretch/>
        </p:blipFill>
        <p:spPr>
          <a:xfrm>
            <a:off x="0" y="3886200"/>
            <a:ext cx="91440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051440" cy="5105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2590920" y="3886200"/>
            <a:ext cx="655308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Ergonomics of Human-Machine System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828440"/>
            <a:ext cx="74674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design of tools to match the physical characteristics of the worker with the functioning of the tool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design of the workplace and work space to meet the physical characteristics of the worke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design of 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controls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displays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to allow the worker to operate and monitor the work system process efficiently with minimum error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development of job procedures that meet the worker’s capabiliti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minimization of the effects of external factors (i.e. thermal condition, illumination, noise, and vibration) on the worker in the workplac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2895480" y="0"/>
            <a:ext cx="3557880" cy="3886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"/>
          <p:cNvPicPr/>
          <p:nvPr/>
        </p:nvPicPr>
        <p:blipFill>
          <a:blip r:embed="rId2"/>
          <a:stretch/>
        </p:blipFill>
        <p:spPr>
          <a:xfrm>
            <a:off x="304920" y="3886200"/>
            <a:ext cx="86961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2046240" y="152280"/>
            <a:ext cx="54342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46748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Steps in System Designs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762120"/>
            <a:ext cx="746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Objectives determi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desired outpu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 the system should accomplis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racteristic of output and tolerance or error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put specif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required input to obtain the outpu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required materials, work skills, and resources constrai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cess descrip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rocess must be describ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required function and task as well as the constra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Functional allo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identified function are allocated  to the human operators or machi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nterface  desig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interface between the human operator and other system component are so designed to optimize human performance and minimize risks of human errors and injur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3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s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3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s are designed based on worker capabilities and limi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3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plays should be user-friendly for the worker to understand  them easily, so that the risk of errors is minim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Facilitator desig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3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materials and procedures should be designed for the intended us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esting and evaluation of the syste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spla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59984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variety of display are to interact with the human sensory syst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ual displ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49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49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ditory displ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ctile, olfactory, and taste display (not comm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three common types of visual display instruments found in industr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window with digital read-out (count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(fixed) circular scale with moving poi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fixed pointer over a moving 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838080" y="365040"/>
            <a:ext cx="2971800" cy="2030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2"/>
          <a:stretch/>
        </p:blipFill>
        <p:spPr>
          <a:xfrm>
            <a:off x="990720" y="3124080"/>
            <a:ext cx="2743200" cy="2791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"/>
          <p:cNvPicPr/>
          <p:nvPr/>
        </p:nvPicPr>
        <p:blipFill>
          <a:blip r:embed="rId3"/>
          <a:stretch/>
        </p:blipFill>
        <p:spPr>
          <a:xfrm>
            <a:off x="5562720" y="735120"/>
            <a:ext cx="1904760" cy="4487760"/>
          </a:xfrm>
          <a:prstGeom prst="rect">
            <a:avLst/>
          </a:prstGeom>
          <a:ln w="0">
            <a:noFill/>
          </a:ln>
        </p:spPr>
      </p:pic>
      <p:sp>
        <p:nvSpPr>
          <p:cNvPr id="274" name="TextBox 7"/>
          <p:cNvSpPr/>
          <p:nvPr/>
        </p:nvSpPr>
        <p:spPr>
          <a:xfrm>
            <a:off x="838080" y="24382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8"/>
          <p:cNvSpPr/>
          <p:nvPr/>
        </p:nvSpPr>
        <p:spPr>
          <a:xfrm>
            <a:off x="914400" y="5943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ed scale with moving poi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Box 9"/>
          <p:cNvSpPr/>
          <p:nvPr/>
        </p:nvSpPr>
        <p:spPr>
          <a:xfrm>
            <a:off x="5181480" y="53341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ed pointer with moving sca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Guidelines for Designing Display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294920"/>
            <a:ext cx="7467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display should present the minimum amount of information necessary for the worker to make a decision based on the information display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digital read-out displays when quick and accurate readings are to be m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circular or semicircular scales instead of vertical or horizontal scale display where possible and if space perm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ment scale numbering in a clockwise direction on circular/semicircular scale, upward on a vertical, and to the right on a horizontal 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a display with a moving pointer on a fixed, circular scale if it is necessary to monitor how a process is changing, or to note the amplitude of 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oid the use of displays with moving scales and fixed pointers since it is not easy to memorize the previous reading, nor to assess the extent of mov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6840" y="10666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ajor scale markers should be numbered in a natural and easily recognizable fash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oid multi scale, multiple-pointer, and non linier scale displays, whenever possib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all displays in the direct line of sight of the operator and avoid any obstru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oid glare in the displ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oid small size or illegible displ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capital letters for single word or short identification sentences since they are readable at a greater distance than lower case let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display must be readable from the operator’s normal 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ize of letters and figures, thickness of lines and their distance apart must be determined based on the viewing distance between the eye and the displa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ee table and figur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Guidelines for Designing Display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457200" y="304920"/>
          <a:ext cx="8305920" cy="3365280"/>
        </p:xfrm>
        <a:graphic>
          <a:graphicData uri="http://schemas.openxmlformats.org/drawingml/2006/table">
            <a:tbl>
              <a:tblPr/>
              <a:tblGrid>
                <a:gridCol w="5791320"/>
                <a:gridCol w="1143000"/>
                <a:gridCol w="1371600"/>
              </a:tblGrid>
              <a:tr h="28080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Recommended minimum letter and numeral height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Nature of marking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ow ligh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dequate ligh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52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Critical markings, position variable (digital read-outs or moving scal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Critical markings, position fixed (emergency instruction, numbers on fixed  scales, and control and switch marking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Non-critical markings (identification labels, instructions, non-emergency label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0.20 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(5 mm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0.15 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(3.75 mm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0.05 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(1.25 mm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0.12 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(3 mm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0.10 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(2.5 mm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0.05 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(1.25 mm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Rectangle 1"/>
          <p:cNvSpPr/>
          <p:nvPr/>
        </p:nvSpPr>
        <p:spPr>
          <a:xfrm>
            <a:off x="457200" y="3584880"/>
            <a:ext cx="83818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Calibri"/>
                <a:ea typeface="Calibri"/>
              </a:rPr>
              <a:t>Not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Calibri"/>
                <a:ea typeface="Calibri"/>
              </a:rPr>
              <a:t>The values are given for a 28 in (71 cm) viewing distance. The values will increase or decrease in proportion to the increase or decrease in the viewing distanc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Calibri"/>
                <a:ea typeface="Calibri"/>
              </a:rPr>
              <a:t>Luminance (brightness) up to 1 fL or 3.4 cd.m</a:t>
            </a:r>
            <a:r>
              <a:rPr b="0" i="1" lang="en-US" sz="1100" spc="-1" strike="noStrike" baseline="30000">
                <a:solidFill>
                  <a:srgbClr val="ffffff"/>
                </a:solidFill>
                <a:latin typeface="Calibri"/>
                <a:ea typeface="Calibri"/>
              </a:rPr>
              <a:t>-2</a:t>
            </a:r>
            <a:r>
              <a:rPr b="0" i="1" lang="en-US" sz="1100" spc="-1" strike="noStrike">
                <a:solidFill>
                  <a:srgbClr val="ffffff"/>
                </a:solidFill>
                <a:latin typeface="Calibri"/>
                <a:ea typeface="Calibri"/>
              </a:rPr>
              <a:t> is considered as low lightin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Calibri"/>
                <a:ea typeface="Calibri"/>
              </a:rPr>
              <a:t>Adapted from Grether and Baker (1972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762120" y="4648320"/>
            <a:ext cx="2047680" cy="2087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"/>
          <p:cNvPicPr/>
          <p:nvPr/>
        </p:nvPicPr>
        <p:blipFill>
          <a:blip r:embed="rId2"/>
          <a:stretch/>
        </p:blipFill>
        <p:spPr>
          <a:xfrm>
            <a:off x="3429000" y="4648320"/>
            <a:ext cx="1111320" cy="20383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3"/>
          <a:stretch/>
        </p:blipFill>
        <p:spPr>
          <a:xfrm>
            <a:off x="5181480" y="4648320"/>
            <a:ext cx="666720" cy="20574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"/>
          <p:cNvPicPr/>
          <p:nvPr/>
        </p:nvPicPr>
        <p:blipFill>
          <a:blip r:embed="rId4"/>
          <a:stretch/>
        </p:blipFill>
        <p:spPr>
          <a:xfrm>
            <a:off x="6553080" y="4616280"/>
            <a:ext cx="12016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23:50:05Z</dcterms:created>
  <dc:creator>hartomo</dc:creator>
  <dc:description/>
  <dc:language>en-US</dc:language>
  <cp:lastModifiedBy>hartomo</cp:lastModifiedBy>
  <dcterms:modified xsi:type="dcterms:W3CDTF">2010-09-30T22:51:57Z</dcterms:modified>
  <cp:revision>61</cp:revision>
  <dc:subject/>
  <dc:title>Slide 1</dc:title>
</cp:coreProperties>
</file>